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AFB-0DE6-4DDF-BE1A-449BA40B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C1B-9060-42D3-83A8-EC632DC7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B19-34B0-4281-9A67-90498766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A8B-0CF2-48F5-A122-24E3397F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840-653F-4D47-AC7E-BD1774F7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309-3CBC-4B01-8D28-D144BAB9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9CC2-BD72-483E-B89A-861E411C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ED6-7FC9-403A-B16B-8243C712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883-AE71-4EE1-9AC4-6904980D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9260-D1B1-4683-AF06-CA2C266D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165-4F4C-4940-8F6D-FF81B854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22A-B7FF-4155-BED4-FF98357B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7DC0-F7D7-4BE3-8E15-481F887E6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4280" y="68544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Jingle Danc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05520" y="3962520"/>
            <a:ext cx="3657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6* Week 5*Day 4 Sentence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Cj01886890000[1]"/>
          <p:cNvPicPr/>
          <p:nvPr/>
        </p:nvPicPr>
        <p:blipFill>
          <a:blip r:embed="rId1"/>
          <a:stretch/>
        </p:blipFill>
        <p:spPr>
          <a:xfrm>
            <a:off x="304920" y="304920"/>
            <a:ext cx="46767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-54000" y="220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0" y="22860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My neighbor and I had quite an adventure selling clothes at the midyear auctio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-54000" y="220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0" y="22860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Mrs. Rauls taught us to draw with chalk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-54000" y="220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 finally caught the baseball after hours of awkward mistakes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-54000" y="220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22860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We paid our money and saw an action pictur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-54000" y="220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5868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he only thing Mom said was, “It’s always naughty to misbehave.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-54000" y="220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22860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 have a question about the culture show in August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20:57:16Z</dcterms:created>
  <dc:creator>llefever</dc:creator>
  <dc:description/>
  <dc:language>en-US</dc:language>
  <cp:lastModifiedBy>teacher</cp:lastModifiedBy>
  <dcterms:modified xsi:type="dcterms:W3CDTF">2011-05-07T16:20:13Z</dcterms:modified>
  <cp:revision>3</cp:revision>
  <dc:subject/>
  <dc:title>Jingle Danc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13098201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2nd grade powerpoints</vt:lpwstr>
  </property>
</Properties>
</file>